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B25-DF48-4B76-9287-84C1B337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780-B3EC-4DBE-9606-BD081D98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833-D8B3-4813-93E6-BB8B8F15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D21-CDBE-4BBA-9364-24BDDE72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C8F5-5CF0-4309-B100-1D350584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3157-68B5-429D-9FD8-0CFEC692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01C0-A45D-4E69-A184-97CBEA63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B52D-CD5B-4462-BC94-9DD338B8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52BF-FD9D-4385-B035-8398E301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0FD0-74E2-4523-A559-F67834A0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4CD8-733D-4FD9-B06F-6D7DEE98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7A4-8A7B-4D0E-AAFD-67961382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C9BE-0999-4F87-B823-6ACD3E20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295A-4377-4BB2-8A8C-8FD23B68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E544-43DE-4537-9075-D8CACBBC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00A7-EBD5-4FBB-B2C3-92F2BEE4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907B-AE09-4B1A-8E8C-FD90AF04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4C1-3019-49A7-9EEE-28883C0C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D0A-43F7-4BE8-8AA2-534CEA7B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5B9-E9D9-4B77-9928-B30B8532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AA0-9BB4-46D8-9364-CB5C1B7C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916-1E8D-42F0-B23A-524FB03F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8B3-DF4A-481E-AFCB-A9A2D801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188-A401-4D1E-BBC2-43D54B00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DE85-D316-4F95-9292-D310BD964A3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9519-5851-4398-842A-32E45388263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7 Keys to comprehension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san Zimmerman and Chryse Hutch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 Keys to Comprehen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tion picture of the mind: sensory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readers create a wide range of visual, auditory, and other sensory images as they read, and they become emotionally involved with what they re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ing connections: background knowled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 readers use their relevant prior knowledge before, during and after reading to enhance their understanding of what they’re rea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 Keys to Comprehen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 Why, what, where, who and how: questio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stions indicate engag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stions are fundamental to being a human be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stions are a key ingredient in building superb read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 Keys to Comprehen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 Weaving sense into words: drawing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erring involves forming a best guess about what the ‘evidence’ (words, sentences, and paragraphs) means; speculating about what’s to come; and then drawing conclusions about what was read to deepen the meaning of the literal words on the pa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y using inference you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aborate upon what you re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conclu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predi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connecting 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ques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sonalize what you read to build a deeper mea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7 Keys to Comprehen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&amp;6.  What’s important and why: determin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ortance and synthesiz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41040" indent="-506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important aspect of comprehension is being able to distinguish between the nonessential information and the essential inform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41040" indent="-506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ng importance has to do with knowing why you’re reading and then making decisions about which information or ideas are most critical to understanding the overall meaning of the piece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.  Cultivating Awareness: Fix-up strategi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o back and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rea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 Sometimes that is enough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Read ahea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 clarify mean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entify what it is you don’t understand: word sentence or concep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ean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If it is a sentence in a picture book, look at the pictur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ound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Look at the initial sound first, then slide onto the n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elf-correc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The ability to recognize their mistake and fix it u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ol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Developing the child’s awareness to ask for clarification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redic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Think about what the book/story may be about or what is going to happen nex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it is a concept, try to summarize the story up to the confusing spot. If that doesn’t clear it up, maybe you need to build more background knowled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22:40:33Z</dcterms:created>
  <dc:creator>mulcahy_cam</dc:creator>
  <dc:description/>
  <dc:language>en-US</dc:language>
  <cp:lastModifiedBy>Teacher</cp:lastModifiedBy>
  <dcterms:modified xsi:type="dcterms:W3CDTF">2010-08-26T01:04:31Z</dcterms:modified>
  <cp:revision>8</cp:revision>
  <dc:subject/>
  <dc:title>7 Keys to comprehension</dc:title>
</cp:coreProperties>
</file>